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A229-7488-4B80-B833-6FE8411C86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D44D-D739-44D9-9D01-B4FA8BE5FA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B7FD-D1D5-4268-BC1B-3B5335CF1F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53CB-5113-4090-B02B-048719848F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7771-5A15-4BF4-B2CF-83C259BC0F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9D51-2FA4-46CD-91A5-919BBB363C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E85A-255B-41AB-B968-03A7E988C5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A89B-3EEF-41C4-B406-2A26242168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C6F1-F5AF-4CDC-89AE-C475265383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CD24-891A-4414-B129-0BEC006088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253E-4214-4355-A236-C5F9CC6C5D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F102-8AA1-4CC5-9C43-E8CC8BA085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4480-1229-4FD6-8281-E6260E2385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4D0-416D-4C82-AD01-F4599273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E19-E764-4CD5-A0CA-954BFBB0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1D9-6979-4FD3-B10D-A369CBA7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412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9140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412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9140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FB8-330B-4305-963B-8F4B60E8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7FB-09E2-4BBC-8BB0-81B2B184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5FE-B248-4BC7-A7AC-CBA5A934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357-0EBC-4C25-AFE8-DAA53DC4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F1B-84F1-46B9-9BC2-3729E208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896400"/>
            <a:ext cx="670572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460-844C-4F2C-81A4-BF8239D1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545-F93D-4DB2-B18E-40E49BD6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AD8-A9AB-46EA-97DD-697D1C0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0BD-BF06-4ED9-A7E9-85643148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F11E-B109-4901-8453-51F9746F4BC1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8318-4A9B-47E8-A449-39FD7DC417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9067680" cy="6705720"/>
            <a:chOff x="0" y="0"/>
            <a:chExt cx="9067680" cy="6705720"/>
          </a:xfrm>
        </p:grpSpPr>
        <p:pic>
          <p:nvPicPr>
            <p:cNvPr id="6" name="Picture 7" descr="MS3 copy"/>
            <p:cNvPicPr/>
            <p:nvPr/>
          </p:nvPicPr>
          <p:blipFill>
            <a:blip r:embed="rId2">
              <a:grayscl/>
              <a:lum bright="20000"/>
            </a:blip>
            <a:stretch/>
          </p:blipFill>
          <p:spPr>
            <a:xfrm>
              <a:off x="0" y="0"/>
              <a:ext cx="723888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" descr="MS2 copy"/>
            <p:cNvPicPr/>
            <p:nvPr/>
          </p:nvPicPr>
          <p:blipFill>
            <a:blip r:embed="rId3"/>
            <a:stretch/>
          </p:blipFill>
          <p:spPr>
            <a:xfrm>
              <a:off x="7300800" y="76320"/>
              <a:ext cx="1766880" cy="662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an independent variab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a dependent varia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 example of ea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more then one item to describe . Use deta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thias Schlei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213372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n: April 5, 18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d: June 23, 188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 botan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vered that all plants were made of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ibuted to the creation of the cell the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5" descr="Photograph:Matthias Schleiden."/>
          <p:cNvPicPr/>
          <p:nvPr/>
        </p:nvPicPr>
        <p:blipFill>
          <a:blip r:embed="rId1"/>
          <a:stretch/>
        </p:blipFill>
        <p:spPr>
          <a:xfrm>
            <a:off x="533520" y="2209680"/>
            <a:ext cx="2314440" cy="3505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762120" y="5791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www.britannica.com/eb/article-9066147/Mathias-Jacob-Schleiden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odor Schw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1440" y="2133720"/>
            <a:ext cx="4267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n: December 7, 18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d: January 11, 18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 zoolog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ded that all animals are made of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ibuted to the creation of the cell the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11" descr="Theodor Schwann"/>
          <p:cNvPicPr/>
          <p:nvPr/>
        </p:nvPicPr>
        <p:blipFill>
          <a:blip r:embed="rId1"/>
          <a:stretch/>
        </p:blipFill>
        <p:spPr>
          <a:xfrm>
            <a:off x="304920" y="2133720"/>
            <a:ext cx="2428920" cy="3657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228600" y="5943600"/>
            <a:ext cx="281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www.nndb.com/people/357/000096069/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dolph Virch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46479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n: October 13, 182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d: September 5, 19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 patholog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is known as th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ther of Pathology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vered that all living cells come only from other living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28600" y="5943600"/>
            <a:ext cx="281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en.wikipedia.org/wiki/Image:Rudolf_Virchow.jpg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7" descr="Image:Rudolf Virchow.jpg"/>
          <p:cNvPicPr/>
          <p:nvPr/>
        </p:nvPicPr>
        <p:blipFill>
          <a:blip r:embed="rId1"/>
          <a:stretch/>
        </p:blipFill>
        <p:spPr>
          <a:xfrm>
            <a:off x="228600" y="1981080"/>
            <a:ext cx="2590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ell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 Contributor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thias Schleid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dor Schwan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dolph Virch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ell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living things are made of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s are the basic units of structure and function in living th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ving cells come only from other living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bing Cell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s Provide structure and carry on major functions to sustain lif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organisms are single cell, other organisms are multi-ce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 function is similar in all living th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ell Theory and the Scientists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o Helped Shape 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mallest unit that can perform all life proc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Early%2520microscope"/>
          <p:cNvPicPr/>
          <p:nvPr/>
        </p:nvPicPr>
        <p:blipFill>
          <a:blip r:embed="rId1"/>
          <a:stretch/>
        </p:blipFill>
        <p:spPr>
          <a:xfrm>
            <a:off x="1828800" y="2057400"/>
            <a:ext cx="380988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0" y="609480"/>
            <a:ext cx="7010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cientists and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Cell Theor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ert Ho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6720" y="20574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n: July 18, 163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d: March 3, 17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ote and published “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icrographi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n as the “English Father of Microscopy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5" descr="Hooke"/>
          <p:cNvPicPr/>
          <p:nvPr/>
        </p:nvPicPr>
        <p:blipFill>
          <a:blip r:embed="rId1"/>
          <a:stretch/>
        </p:blipFill>
        <p:spPr>
          <a:xfrm>
            <a:off x="304920" y="205740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0" y="59436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04920" y="58672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58672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www-groups.dcs.st-and.ac.uk/~history/PictDisplay/Hooke.htm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ert Ho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648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ibu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He observed pieces of cork from the bark of a cork tree under the microsc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His observations led him to coin the word “cell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“Cell”- means little rooms in Lat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He compared the small boxes to the small rooms that monks lived 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5" descr="Cork cells"/>
          <p:cNvPicPr/>
          <p:nvPr/>
        </p:nvPicPr>
        <p:blipFill>
          <a:blip r:embed="rId1"/>
          <a:stretch/>
        </p:blipFill>
        <p:spPr>
          <a:xfrm>
            <a:off x="4724280" y="1981080"/>
            <a:ext cx="2319480" cy="3581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572000" y="5715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www.learner.org/channel/courses/essential/life/session1/closer1.htm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457200" y="914400"/>
            <a:ext cx="6705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7200" y="914400"/>
            <a:ext cx="6705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9" descr="hooke"/>
          <p:cNvPicPr/>
          <p:nvPr/>
        </p:nvPicPr>
        <p:blipFill>
          <a:blip r:embed="rId1"/>
          <a:stretch/>
        </p:blipFill>
        <p:spPr>
          <a:xfrm>
            <a:off x="1066680" y="990720"/>
            <a:ext cx="50292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on van Leeuwenh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23720" y="213372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n: October 24, 16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ed: August 30, 17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is known as the “Father of Microscopy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280px-Antoni_van_Leeuwenhoek"/>
          <p:cNvPicPr/>
          <p:nvPr/>
        </p:nvPicPr>
        <p:blipFill>
          <a:blip r:embed="rId1"/>
          <a:stretch/>
        </p:blipFill>
        <p:spPr>
          <a:xfrm>
            <a:off x="457200" y="205740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57200" y="58672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en.wikipedia.org/wiki/Anton_van_Leeuwenhoek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on van Leeuwenh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339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verie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1673: He looked at pond scum under the microscope and discovered small organisms he ca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nimalcu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little animals (Protis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1676: discover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cilia"/>
          <p:cNvPicPr/>
          <p:nvPr/>
        </p:nvPicPr>
        <p:blipFill>
          <a:blip r:embed="rId1"/>
          <a:stretch/>
        </p:blipFill>
        <p:spPr>
          <a:xfrm>
            <a:off x="4267080" y="198108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4267080" y="56386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ttp://www.kent.k12.wa.us/staff/TimLynch/sci_class/chap09/lesson_protista/Protista_Lesson.html#Alga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4:23:45Z</dcterms:created>
  <dc:creator>Amanda Marie Culp</dc:creator>
  <dc:description/>
  <dc:language>en-US</dc:language>
  <cp:lastModifiedBy>Administrator</cp:lastModifiedBy>
  <dcterms:modified xsi:type="dcterms:W3CDTF">2014-05-27T16:10:43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24121033</vt:lpwstr>
  </property>
</Properties>
</file>